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A07-0B81-46F1-BC75-0EEDDC59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CD4-A860-4D8E-B3C4-8A57B1E4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52D-4B75-41FE-942F-63C4C662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51D-2B8A-43F4-AA8B-4B78D038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B528-9FC5-41A4-AE3B-60FF34CC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B950-0F6C-4C83-829D-667820F1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09D6-CCF0-49DC-BE6A-DE7A5B2B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2DC5-5B0B-4F93-B328-FECD2EE6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9E89-C0FB-47F8-997F-DD882508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4B87-9856-48DF-9B6A-105591B6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6123-9D00-4358-A248-1F9DF49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E1A-2CB9-4A75-A54D-DD6480AD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1BD9-535F-43AA-B9D8-A01019E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143C-9391-4C91-B1F7-661FF8DB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13E5-8C3E-4E69-A3A9-7C122408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653C-88DD-430F-859F-698F14C9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B3B1-3F66-4D08-BD27-B3507A14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7AB-33C6-4797-8724-22DC20AE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051-C352-4A27-91E3-927AE6BC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624-2ECA-401E-B029-00F3133C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2C4-5F03-4956-91FD-DFB97642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DEA-56D5-49D6-9440-CE112045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388-1D22-41E3-887C-AA812B52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BAD-383C-4CD0-8A6B-E6626D48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D4CE-2B19-4528-8BAA-FCF5DF1CE8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099B-082D-40BA-9DAB-F936DF7A07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-609480" y="-41400"/>
            <a:ext cx="10362960" cy="6899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bandera2"/>
          <p:cNvPicPr/>
          <p:nvPr/>
        </p:nvPicPr>
        <p:blipFill>
          <a:blip r:embed="rId2"/>
          <a:stretch/>
        </p:blipFill>
        <p:spPr>
          <a:xfrm>
            <a:off x="2666880" y="4114800"/>
            <a:ext cx="3810240" cy="2602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3048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República Dominicana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1930 - 196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160" y="30481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The Era of Trujill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República Dominican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fore Truji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492) Colony of Sp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795) Colony of Fr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1) Haitian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9) First Re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14) Colony of Spa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1) Rebe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2) Haitian Contr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44) Rebellion &amp; Independ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61) Spanish Provi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70) Treaty with U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16) Dictatorship Ulises Heureau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24) Dictatorship Horacio Vásqu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494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afael Leonidas Trujillo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is You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486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rn in 1891 in San Cristobal, Dominican Repub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umble 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mentary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16, worked as telegraph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the end 1916, employed in a sugar refin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1918, Joins the  National Gu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aises ranks very quickly, until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trujillojoven"/>
          <p:cNvPicPr/>
          <p:nvPr/>
        </p:nvPicPr>
        <p:blipFill>
          <a:blip r:embed="rId1"/>
          <a:stretch/>
        </p:blipFill>
        <p:spPr>
          <a:xfrm>
            <a:off x="45720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rujillo Takes Military Contro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n 1928, Trujillo becomes the head of “La Policía Nacional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Along with Rafael Estrella Ureña, leads the revolution of Santiago against Horacio Vásquez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Later, with the help from the US, he takes control and becomes”Presidente de la República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trujillo3"/>
          <p:cNvPicPr/>
          <p:nvPr/>
        </p:nvPicPr>
        <p:blipFill>
          <a:blip r:embed="rId1"/>
          <a:stretch/>
        </p:blipFill>
        <p:spPr>
          <a:xfrm>
            <a:off x="5943600" y="2057400"/>
            <a:ext cx="2581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Regime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76720" y="1828800"/>
            <a:ext cx="537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akes control of the country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 (economy, politics, etc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Gets rid of his enemies by sending them to prison &amp; torturing th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Examples of tor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- electric shocks, water drips, etc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sillaelectrica"/>
          <p:cNvPicPr/>
          <p:nvPr/>
        </p:nvPicPr>
        <p:blipFill>
          <a:blip r:embed="rId1"/>
          <a:stretch/>
        </p:blipFill>
        <p:spPr>
          <a:xfrm>
            <a:off x="53352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s Hermanas Mirab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41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n el tiempo de las mariposas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rujillo falls in love with Minerva, imprisons her husband Manolo Tavarez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he becomes involved in the revolutionary movement , </a:t>
            </a:r>
            <a:r>
              <a:rPr b="1" i="1" lang="en-US" sz="2500" spc="-1" strike="noStrike">
                <a:solidFill>
                  <a:srgbClr val="ffffff"/>
                </a:solidFill>
                <a:latin typeface="Tahoma"/>
              </a:rPr>
              <a:t>14 de juni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Murdered at the end of 1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mirabal2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 revolució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revolution began with the slow fall of the dictatorshi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US government contacted a group of rebels to help assassinate Trujillo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assassination occurred on May 30, 196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834080" y="2585880"/>
            <a:ext cx="37051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Legacy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lthough it was a violent regime, Trujillo’s Era was a moment of incredible prosperity for the Dominican econom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fter his assassination, Democracy was reach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Joaquín Balagu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escudo"/>
          <p:cNvPicPr/>
          <p:nvPr/>
        </p:nvPicPr>
        <p:blipFill>
          <a:blip r:embed="rId1"/>
          <a:stretch/>
        </p:blipFill>
        <p:spPr>
          <a:xfrm>
            <a:off x="6400800" y="2362320"/>
            <a:ext cx="224964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Luis Perez -  Compadre Pedro Juan.mp3" descr=""/>
          <p:cNvPicPr/>
          <p:nvPr/>
        </p:nvPicPr>
        <p:blipFill>
          <a:blip r:embed="rId2"/>
          <a:stretch/>
        </p:blipFill>
        <p:spPr>
          <a:xfrm>
            <a:off x="66294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218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9:34:35Z</dcterms:created>
  <dc:creator>Mechanical Engineering</dc:creator>
  <dc:description/>
  <dc:language>en-US</dc:language>
  <cp:lastModifiedBy>Helen Zumaeta</cp:lastModifiedBy>
  <cp:lastPrinted>2014-02-24T18:39:03Z</cp:lastPrinted>
  <dcterms:modified xsi:type="dcterms:W3CDTF">2014-02-24T19:06:52Z</dcterms:modified>
  <cp:revision>34</cp:revision>
  <dc:subject/>
  <dc:title>Republica Dominicana 1930 - 1961</dc:title>
</cp:coreProperties>
</file>